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1.png" ContentType="image/png"/>
  <Override PartName="/ppt/media/image44.png" ContentType="image/png"/>
  <Override PartName="/ppt/media/image58.jpeg" ContentType="image/jpeg"/>
  <Override PartName="/ppt/media/image42.png" ContentType="image/png"/>
  <Override PartName="/ppt/media/image59.jpeg" ContentType="image/jpeg"/>
  <Override PartName="/ppt/media/image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4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230325-5C89-4B55-82BB-1EFCA9C8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5D50E5-10FB-4285-AC2A-608A5818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one and Dutch Schul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B7E576-583C-44BC-83D6-7C942F6C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D7141F-1C62-4F7B-BB93-9DCCEB96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5- 1 car in every 10 sec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- offered competition.  Broke into 2 parts:  cadillac for upper class and Chevrolet for the working and middle classes.  Advertised accordin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A4D139-8C78-4121-9F4F-BC749B364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H bills- government purchase farm surpluses and store them until pries rose or sell them on the world market.  Calvin Coolidge vetoed the bill in 1927, claimed it was unnecessary federal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C37-BB38-407B-850C-28980459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3F2-E9C1-4413-A7F9-3B18CB9A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9B8-FD5A-47E6-A434-FC6B1026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3F0-9E57-4D18-BC46-43781184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D23-1D33-499F-92C6-6EACE0BF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867-6679-4F11-8447-6ED5BC5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A67-5697-419F-B4EB-C4A40C8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35D-BB44-4253-B28B-3603F32D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8FE-05B0-47A2-A05F-2A83D74B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CF6-170C-42F7-94EC-47170F55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BD4-1F52-421C-B96D-D71D623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6F1-990C-471F-8824-4AF6FEF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avi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F4B-E8A9-44CE-ABCB-984516F93F81}" type="slidenum">
              <a:rPr b="0" lang="en-US" sz="1200" spc="-1" strike="noStrike">
                <a:solidFill>
                  <a:srgbClr val="898989"/>
                </a:solidFill>
                <a:latin typeface="Ravi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arkisim"/>
                <a:ea typeface="Narkisim"/>
              </a:rPr>
              <a:t>The Roaring 20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yala"/>
              </a:rPr>
              <a:t>Melissa C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yala"/>
              </a:rPr>
              <a:t>WM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yala"/>
              </a:rPr>
              <a:t>APU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882600">
            <a:off x="6552720" y="3580920"/>
            <a:ext cx="160020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238880" y="1066680"/>
            <a:ext cx="1524240" cy="200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219320" y="4724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838080" y="152280"/>
            <a:ext cx="2705400" cy="16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4267080" y="38088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380880" y="2133720"/>
            <a:ext cx="1857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8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14511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Pro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1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Nyal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 Amendment &amp; Volstead Act = abolition of alcohol-  most popular in the South &amp;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Impossible to en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Rumrunners and bootleg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peakea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3886200" y="41911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762120" y="494352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Evading the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Home disti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Home brew” &amp; “bathtub gi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Sold to speakeasies all over the 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Could result in illness, even de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peakea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Passwords and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Hidden entr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Drop shelves to hide liqu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Hidden storage ro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Organized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Gangsters controlled illicit and many legal businesses in major cities, like Chicago, during the 192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Violence was common, convictions were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Made millions off the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24280"/>
            <a:ext cx="1886040" cy="2419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286000" y="4857840"/>
            <a:ext cx="152388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7162920" y="41148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St. Valentine’s Day Massac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7 men mu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Rival g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hic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elieved to be the work of Al Capone (Public Enemy #1) - never convi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351936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417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yala"/>
              </a:rPr>
              <a:t>Scopes 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Teach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Nyala"/>
              </a:rPr>
              <a:t>evolution or creation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 in schoo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outhern states outlawed the teaching of evolution (Bible Belt states-  large # of Fundamentalis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Tennessee-  </a:t>
            </a: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John Scopes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was indicted for teaching evolution to HS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copes defended by </a:t>
            </a: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Clarence Da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Prosecution:  </a:t>
            </a: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William Jennings Bry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Outcome- Scope was found guilty and but not pu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Monkey Trial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136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yal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Nyala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Nyala"/>
              </a:rPr>
              <a:t> Industrial Re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Increased industrial output and labor force due to technological adv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lectricity replaced s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utomatic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Workers as a machine (monoton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Mass production technique – Fo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Moving assembly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Increased productivity by 4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3747960" y="3565440"/>
            <a:ext cx="5396040" cy="3292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Auto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model T"/>
          <p:cNvPicPr/>
          <p:nvPr/>
        </p:nvPicPr>
        <p:blipFill>
          <a:blip r:embed="rId2"/>
          <a:stretch/>
        </p:blipFill>
        <p:spPr>
          <a:xfrm>
            <a:off x="6172200" y="152280"/>
            <a:ext cx="2809800" cy="1914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Henry F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ssembly line- 1 car every 10 seconds left the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ord increased wage scale $5 for 8 h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Reduced turnover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mployed 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ars more affor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Consume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Demand for new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Increased automobile ownership= subu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Increased consumer products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Mass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Consumption (need for mo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Buying on margin”  (credit)- I want it NO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Taking F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Wright Brothers (Orville and Wilbur) @ Kitty Hawk, NC- 19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harles Lindbergh, “Lucky Lindy”-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Spirit of St. Louis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- first trans-Atlantic flight (NY to Par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303696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9908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Election of 19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59914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651120" cy="2378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4419720" y="510552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Harding won the election!</a:t>
            </a:r>
            <a:endParaRPr b="0" lang="en-US" sz="28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dvertising (commerci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Vaudeville come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aseball and college football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Turned college football into a popular 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3272040" cy="210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295280" y="4724280"/>
            <a:ext cx="2737080" cy="192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2576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3581280"/>
            <a:ext cx="1600200" cy="242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7705800" y="152280"/>
            <a:ext cx="1438200" cy="3171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5400000">
            <a:off x="5638680" y="15235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Nyala"/>
              </a:rPr>
              <a:t>Movi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2640" y="228600"/>
            <a:ext cx="5791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elebrities:  Charlie Chaplin, Elizabeth Taylor, Mary Pickford, Greta Garbo, Clara B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tudios: Paramount, Fox, MGM, WB, Unive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The Jazz Singer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Nyal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 movie using sound (talk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onstruction of grand movie 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oncerns:  sexual morality of celeb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Led to: censorship of fil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086600" y="39625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0" y="609480"/>
            <a:ext cx="112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yala"/>
              </a:rPr>
              <a:t>D.W. Griffith’s </a:t>
            </a:r>
            <a:r>
              <a:rPr b="1" i="1" lang="en-US" sz="3200" spc="-1" strike="noStrike">
                <a:solidFill>
                  <a:srgbClr val="ffffff"/>
                </a:solidFill>
                <a:latin typeface="Nyala"/>
              </a:rPr>
              <a:t>Birth of a N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yala"/>
              </a:rPr>
              <a:t>Film released in 19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yala"/>
              </a:rPr>
              <a:t>Glorified the K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yala"/>
              </a:rPr>
              <a:t>Reignited feuds between white &amp; black southe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48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52560" cy="2377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ultan of Swat”- Babe 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Popular and profi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aseball becomes a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A banned from baseball league- formed their own the Negro National Lea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2419200" cy="18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37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>
            <a:alpha val="7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16200000">
            <a:off x="-2247840" y="2857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Nyala"/>
              </a:rPr>
              <a:t>Flapp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99840" y="304920"/>
            <a:ext cx="7086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New image of young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hort, bobbed 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horter hem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moking and drinking- seen in speakea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ancing the charle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Listening to Jaz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s://encrypted-tbn0.google.com/images?q=tbn:ANd9GcSZTiR98Xg_5FDiq9ABcsv9V_vVLfkxJITY_ZumhyiDTHZ2-Pd0bg"/>
          <p:cNvPicPr/>
          <p:nvPr/>
        </p:nvPicPr>
        <p:blipFill>
          <a:blip r:embed="rId1"/>
          <a:stretch/>
        </p:blipFill>
        <p:spPr>
          <a:xfrm>
            <a:off x="3276720" y="449568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s://encrypted-tbn2.google.com/images?q=tbn:ANd9GcQT_CXQl7fuHgsz4Z2Q4ovJoo-_9hKydKKIuQRJ0CXmmnfzc88BkA"/>
          <p:cNvPicPr/>
          <p:nvPr/>
        </p:nvPicPr>
        <p:blipFill>
          <a:blip r:embed="rId2"/>
          <a:stretch/>
        </p:blipFill>
        <p:spPr>
          <a:xfrm>
            <a:off x="304920" y="4191120"/>
            <a:ext cx="1714320" cy="26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s://encrypted-tbn3.google.com/images?q=tbn:ANd9GcRlKQels_Qa4-52wzEeyU6A5bw8t_BOBumNfsWy8pyw_3j6rKemDA"/>
          <p:cNvPicPr/>
          <p:nvPr/>
        </p:nvPicPr>
        <p:blipFill>
          <a:blip r:embed="rId3"/>
          <a:stretch/>
        </p:blipFill>
        <p:spPr>
          <a:xfrm>
            <a:off x="6705720" y="3048120"/>
            <a:ext cx="16761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Changing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Young Americans reject the traditional values of their elders regar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Sex….Dress…Public behavior…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mbrace the ideas of Sigmund Fre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Repressing sexuality could damage mental and emotion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Margaret Sanger- advocate of birth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Pre-marital sex on the 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ex used in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s://encrypted-tbn0.google.com/images?q=tbn:ANd9GcRHxlF3ySJu68AlcWayRsuh93bWPPUIPrqiqHkr1XsOmK1u29cO"/>
          <p:cNvPicPr/>
          <p:nvPr/>
        </p:nvPicPr>
        <p:blipFill>
          <a:blip r:embed="rId1"/>
          <a:stretch/>
        </p:blipFill>
        <p:spPr>
          <a:xfrm>
            <a:off x="5638680" y="4876920"/>
            <a:ext cx="27910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id not see prosperity in the 2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armers:  in debt, surplus, dropping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Nyala"/>
              </a:rPr>
              <a:t>McNary-Haugen b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Designed to help stabilize farm pr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Provides for government purchase of surplus produce at a fixed price, then resale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Vetoed by Coolidge tw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Jazz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Rising popularity of Jazz 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ance h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arly career of Louis Arm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s://encrypted-tbn2.google.com/images?q=tbn:ANd9GcRYUKxXOrIaO0LWW7hSShJbAeCsI9PnigZHyQ4j3gRKOpVVFTdn"/>
          <p:cNvPicPr/>
          <p:nvPr/>
        </p:nvPicPr>
        <p:blipFill>
          <a:blip r:embed="rId1"/>
          <a:stretch/>
        </p:blipFill>
        <p:spPr>
          <a:xfrm>
            <a:off x="3962520" y="3429000"/>
            <a:ext cx="45511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Harlem Renaiss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ultural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frican American community in NY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evelopment of artists, musicians, auth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s://encrypted-tbn0.google.com/images?q=tbn:ANd9GcSidbR5XgxwS4VrFM_BjN-eqGR8slohf1NXmlMlLNvo0ki5Hg5U4Q"/>
          <p:cNvPicPr/>
          <p:nvPr/>
        </p:nvPicPr>
        <p:blipFill>
          <a:blip r:embed="rId1"/>
          <a:stretch/>
        </p:blipFill>
        <p:spPr>
          <a:xfrm>
            <a:off x="1981080" y="3429000"/>
            <a:ext cx="43354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Cultural 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. Scott Fitzgerald-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rnest Hemingway-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A Farewell to 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inclair Lewis-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Main Street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&amp;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Babbi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William Faulkner-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The Sound and the Fury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&amp; </a:t>
            </a:r>
            <a:r>
              <a:rPr b="0" i="1" lang="en-US" sz="3200" spc="-1" strike="noStrike">
                <a:solidFill>
                  <a:srgbClr val="000000"/>
                </a:solidFill>
                <a:latin typeface="Nyala"/>
              </a:rPr>
              <a:t>As I Lay D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Poe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Langston Hughes, e.e. cummings, T.S. Eli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rchitect:  Frank Lloyd W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Red Scare 1919-19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ear of Communism (“Red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ighting Quaker” Attorney General A. Mitchell Palmer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Sought Reds and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Palmer Raid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eportation of Russ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Legislation further infringed upon civil rights- (of radical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1725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Bull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ooming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Get-rich-quick sche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Wild spe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uying stocks on marg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Pay a down payment now, pay the rest later = in deb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3.bp.blogspot.com/-cheAum8lgYE/TbdNH1rWfiI/AAAAAAAAMEk/IG3rMTno-nk/s1600/wall%2Bstreet%2Bbull%2Bsculpture.jpg"/>
          <p:cNvPicPr/>
          <p:nvPr/>
        </p:nvPicPr>
        <p:blipFill>
          <a:blip r:embed="rId1"/>
          <a:stretch/>
        </p:blipFill>
        <p:spPr>
          <a:xfrm>
            <a:off x="5730840" y="1371600"/>
            <a:ext cx="34131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WENTIES POLI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Presidents of the Twen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ren G. Harding-  “Return to Normalc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vin Coolidge- “Silent Cal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ert Hoover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https://encrypted-tbn3.google.com/images?q=tbn:ANd9GcSnhHCRGSbfB-S6f5Wi4uoYWfI3arOVU_poDnjn0TPRmLl-lFc2"/>
          <p:cNvPicPr/>
          <p:nvPr/>
        </p:nvPicPr>
        <p:blipFill>
          <a:blip r:embed="rId1"/>
          <a:stretch/>
        </p:blipFill>
        <p:spPr>
          <a:xfrm>
            <a:off x="380880" y="4038480"/>
            <a:ext cx="185760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s://encrypted-tbn1.google.com/images?q=tbn:ANd9GcTP54VIwIsiS7b1XpauDWaB2VCgRIv16n3pPcWtLIvC6bnSWnrY"/>
          <p:cNvPicPr/>
          <p:nvPr/>
        </p:nvPicPr>
        <p:blipFill>
          <a:blip r:embed="rId2"/>
          <a:stretch/>
        </p:blipFill>
        <p:spPr>
          <a:xfrm>
            <a:off x="28954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encrypted-tbn0.google.com/images?q=tbn:ANd9GcR-cL_P1g-gW2eW9fhubhgPr2eLixtIW5TRIHd0I5JeuWOkuxjQ_w"/>
          <p:cNvPicPr/>
          <p:nvPr/>
        </p:nvPicPr>
        <p:blipFill>
          <a:blip r:embed="rId3"/>
          <a:stretch/>
        </p:blipFill>
        <p:spPr>
          <a:xfrm>
            <a:off x="5943600" y="4191120"/>
            <a:ext cx="1839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ing’s Presid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Ohio Ga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orruption &amp; Scan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Teapot Dome Scand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yala"/>
              </a:rPr>
              <a:t>Involved Albert B. Fall and the leasing of government land (with oil) for brib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Laissez-faire approach toward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Fordney-McCumber Tariff Act- increased the rate to 38.5% (pro-bus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Died before term e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Foreign Aff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Washington Conference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(1921)-talks on naval disarmaments- Belgium, China, France Great Britain, Italy, Japan, Portugal and the Nether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Five-Power Treaty-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US, France, GB and Japan- agreement to respect each other’s territory in the Pa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Nine-Power Treaty- 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greement to respect the Open Door policy- guaranteeing the territorial integrity of Ch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lent Cal” Cool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ing’s VP- stepped into off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ed in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d limited government &amp; laissez-f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government sp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toed bill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uses for WWI veter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Nary-Haugen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Unions = Reds = An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Industries banned unions= America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nti-foreignism (xenophobia)/na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Anti-Commu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rcRect l="0" t="0" r="0" b="8955"/>
          <a:stretch/>
        </p:blipFill>
        <p:spPr>
          <a:xfrm>
            <a:off x="5791320" y="4533840"/>
            <a:ext cx="1790640" cy="2324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4960" y="1522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cco &amp; Vanzet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1426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Convicted of murder in 19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Little evidence to support a conv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Men were Italian, atheists, and anarch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Both men were executed in 192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853160" y="1292400"/>
            <a:ext cx="4028760" cy="51577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876920" y="41148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yala"/>
              </a:rPr>
              <a:t>Nicola Sacco &amp; Bartolomeo Vanzetti</a:t>
            </a:r>
            <a:endParaRPr b="0" lang="en-US" sz="2000" spc="-1" strike="noStrike">
              <a:solidFill>
                <a:srgbClr val="000000"/>
              </a:solidFill>
              <a:latin typeface="Ravie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3214800" cy="2103480"/>
          </a:xfrm>
          <a:prstGeom prst="rect">
            <a:avLst/>
          </a:prstGeom>
          <a:ln w="0">
            <a:noFill/>
          </a:ln>
        </p:spPr>
      </p:pic>
      <p:sp>
        <p:nvSpPr>
          <p:cNvPr id="72" name="Rounded Rectangle 7"/>
          <p:cNvSpPr/>
          <p:nvPr/>
        </p:nvSpPr>
        <p:spPr>
          <a:xfrm>
            <a:off x="380880" y="0"/>
            <a:ext cx="3733920" cy="1066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ranny of the establishment over the poor and politically non-conforming.”</a:t>
            </a:r>
            <a:endParaRPr b="0" lang="en-US" sz="18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Ku Klux K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Resurgence of the Klan in the 192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Anti-immigrants, anti-black, anti-Catholic, anti-Jewish, anti-Communist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Pro-WASP, ultra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Spread throughout the South (Bible Belt) and Mid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Social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yala"/>
              </a:rPr>
              <a:t>Music, parades, meetings and ral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324480" y="2209680"/>
            <a:ext cx="24004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281916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2485800" cy="1838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7"/>
          <a:stretch/>
        </p:blipFill>
        <p:spPr>
          <a:xfrm>
            <a:off x="304920" y="2438280"/>
            <a:ext cx="242892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2895480" y="1752480"/>
            <a:ext cx="281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After gaining over 5 million followers the Klan fell to corruption and scandal during the late 1920s.</a:t>
            </a:r>
            <a:endParaRPr b="0" lang="en-US" sz="2800" spc="-1" strike="noStrike">
              <a:solidFill>
                <a:srgbClr val="000000"/>
              </a:solidFill>
              <a:latin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yala"/>
              </a:rPr>
              <a:t>Immigration Restr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100 percent Americans” were upset at the increase in European immigration post-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Emergency Quota Act of 19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Set a quota (3%) per 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Based upon census in 19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Immigration Act of 19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Quotas cut to 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yala"/>
              </a:rPr>
              <a:t>Based upon census in 18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30956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Both immigration restriction acts favored Northern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Most Asians were shut out comple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Canadians and Latin Americans were allowed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yala"/>
              </a:rPr>
              <a:t>Some Americans supported diversity and plur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5:10:18Z</dcterms:created>
  <dc:creator>Technology Center</dc:creator>
  <dc:description/>
  <dc:language>en-US</dc:language>
  <cp:lastModifiedBy>Augusta County Schools</cp:lastModifiedBy>
  <dcterms:modified xsi:type="dcterms:W3CDTF">2012-03-23T16:19:27Z</dcterms:modified>
  <cp:revision>80</cp:revision>
  <dc:subject/>
  <dc:title>The Roaring 20’s</dc:title>
</cp:coreProperties>
</file>